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ED2B-1C51-48E3-BC68-357C4056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1E2C-FC1A-4085-8C69-A88E4B3A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C6F1-56BA-4676-A64F-4413BB98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47D9-94A9-4B8A-B30D-48B2C807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599B-019C-4C35-B50E-95198D41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3D82-ECB5-4FE2-9DEF-D91F9A92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624F-8D43-463A-A9F6-ED08F087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F604-F553-4A49-9A03-A64CEF53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6414-4A65-4EE7-B13C-6D064141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0D7B-7D84-49B6-83E5-B00AB594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6273-C417-41C8-BD36-344DFBCD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B4F2-0C0E-4633-9DD0-311B795B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A6A2-928F-4FD8-BD65-38599C01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62DE-9E0F-48E2-AFC5-8FAC2C3E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3B99-BAC8-407E-9EF5-61045A8F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C4D3-1E62-4C12-924C-9D28E730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0080-B7AB-4E05-9F4A-0FA2C92F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5C4A2-2292-4B7C-80F5-FAA68B73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986B-56CA-4ABB-AAB3-A974E4F5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E512-20E9-463B-A8D2-0F14287C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D0FA-B89B-47C0-A0BC-70DD86F0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B362-1641-4940-ACF3-8AE3DD9F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BA20-6E64-4DF8-AD8A-6B18D52D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101B-7D21-47C1-A199-6783FCE9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D717-1DD8-47FB-98CD-2E90270F12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A755-3A00-43E0-877E-260E7EFE12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1828800"/>
            <a:ext cx="6950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внеурочной деятельности в начальной шко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71680" y="2071800"/>
          <a:ext cx="8229600" cy="4479840"/>
        </p:xfrm>
        <a:graphic>
          <a:graphicData uri="http://schemas.openxmlformats.org/drawingml/2006/table">
            <a:tbl>
              <a:tblPr/>
              <a:tblGrid>
                <a:gridCol w="2055600"/>
                <a:gridCol w="2057400"/>
                <a:gridCol w="2059200"/>
                <a:gridCol w="20574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ая пр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Т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(коллективное творческое дел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99840" y="92844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</a:rPr>
              <a:t>СОЦИАЛЬНОГО ТВОРЧЕ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ятно 2 28"/>
          <p:cNvSpPr/>
          <p:nvPr/>
        </p:nvSpPr>
        <p:spPr>
          <a:xfrm>
            <a:off x="0" y="571680"/>
            <a:ext cx="2286000" cy="1143000"/>
          </a:xfrm>
          <a:prstGeom prst="irregularSeal2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2428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комплексные образовательные программы</a:t>
            </a: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предполагающие последовательный переход от воспитательных результатов первого к результатам третьего уровня в различных видах внеуроч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тематические образовательные программы</a:t>
            </a: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направленные на получение воспитательных результатов в определенном проблемном поле и использующие при этом возможности различных видов внеурочной деятельности (например, образовательная программа патриотического воспитания, образовательная программа воспитания толерантности и т.п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28760" y="15717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8760" y="2428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образовательные программы, ориентированные на достижение результатов определенн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Такие программы могут иметь возрастную привязку, 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для 1-2-го класса – образовательная программа, ориентированная на приобретение школьником социальных знаний в различных видах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для 2-3-го класса – образовательная программа, формирующая позитивное отношение к базовым ценност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для 4-го класса – образовательная программа, дающая ребенку опыт самостоятельного общественного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28760" y="15717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25714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образовательные программы по конкретным видам внеуроч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возрастные образовательные программы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(образовательная программа внеурочной деятельности младших школьников; образовательная программа внеурочной деятельности подростков; образовательная программа внеурочной деятельности старшеклассник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индивидуальная образовательная программа младшего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428760" y="15717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Типы образовательных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Интеграция возможностей общего и дополнительного образования при организации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8760" y="2428920"/>
            <a:ext cx="85010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разработка и осуществление совместных программ и проектов, отдельных дел и акций, направленных на решение воспитательных задач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кооперация ресурсов и обмен ресурсами (интеллектуальными, кадровыми, информационными, финансовыми, материально-техническими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предоставление услуг (консультативных, информационных, технических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взаимообучение специалистов, обмен передовым опыт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совместная экспертиза качества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28760" y="171468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Механизмы интег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ВНЕУРОЧНАЯ ДЕЯТЕЛЬНОСТ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28760" y="1428840"/>
          <a:ext cx="8229600" cy="5268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ЫЕ 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7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портивно-оздоро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аучно-познавательн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оенно-патриот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щественно-полезная   деятель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cc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оект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Игров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Познавательн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Проблемно-ценностное обще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Досугово-развлекательная деятельность (досуговое общение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Художественное творчество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Социальное творчество (социально преобразующая добровольческая деятельность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Техническое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Трудовая (производственная)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Спортивно-оздоровительная деятель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buClr>
                          <a:srgbClr val="1818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818ff"/>
                          </a:solidFill>
                          <a:latin typeface="Times New Roman"/>
                        </a:rPr>
                        <a:t>Туристско-краеведческая де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ВОСПИТАТЕЛЬНЫЕ РЕЗУЛЬТАТЫ И ЭФФЕКТЫ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НЕУРОЧНОЙ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ДЕЯТЕЛЬНОСТИ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8"/>
          <p:cNvSpPr/>
          <p:nvPr/>
        </p:nvSpPr>
        <p:spPr>
          <a:xfrm>
            <a:off x="428760" y="1785960"/>
            <a:ext cx="82296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Воспитательный результат внеурочной деятельности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Воспитательный эффект внеурочной деятельности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– влияние того или иного духовно-нравственного приобретения  на процесс развития личности ребенка (</a:t>
            </a: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последствие результата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40006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Первый уровень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– приобретение школьником социального знания (знания об общественных норм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об устройстве обще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о социально одобряемых и неодобряемых формах поведения в обществе и т.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071960" y="1785960"/>
            <a:ext cx="4857840" cy="3660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914400" y="55720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Достигается во взаимодействии с педаг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3106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Второй уровень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3286080" y="1785960"/>
            <a:ext cx="5643720" cy="3786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914400" y="5715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Достигается в дружественной детской среде (коллекти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ff"/>
                </a:solidFill>
                <a:latin typeface="Times New Roman"/>
              </a:rPr>
              <a:t>УРОВНИ ВОСПИТАТЕЛЬ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30243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Третий уровень </a:t>
            </a:r>
            <a:r>
              <a:rPr b="0" lang="ru-RU" sz="2400" spc="-1" strike="noStrike">
                <a:solidFill>
                  <a:srgbClr val="1818ff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1714680"/>
            <a:ext cx="5715000" cy="39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914400" y="5715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818ff"/>
                </a:solidFill>
                <a:latin typeface="Times New Roman"/>
              </a:rPr>
              <a:t>Достигается во взаимодействии с социальными су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Каждому уровню воспитательного результата соответствует своя образовательная форма.</a:t>
            </a:r>
            <a:br>
              <a:rPr sz="2800"/>
            </a:br>
            <a:r>
              <a:rPr b="1" lang="ru-RU" sz="2800" spc="-1" strike="noStrike">
                <a:solidFill>
                  <a:srgbClr val="1818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571680" y="2428920"/>
            <a:ext cx="8207280" cy="3786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1"/>
          <p:cNvSpPr/>
          <p:nvPr/>
        </p:nvSpPr>
        <p:spPr>
          <a:xfrm>
            <a:off x="2500200" y="3429000"/>
            <a:ext cx="5234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ff"/>
                </a:solidFill>
                <a:latin typeface="Arial"/>
              </a:rPr>
              <a:t>3-й уровень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3143160" y="4572000"/>
            <a:ext cx="5015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ff"/>
                </a:solidFill>
                <a:latin typeface="Arial"/>
              </a:rPr>
              <a:t>1-й уровень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2857680" y="4000680"/>
            <a:ext cx="4873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ff"/>
                </a:solidFill>
                <a:latin typeface="Arial"/>
              </a:rPr>
              <a:t>2-й уровень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7"/>
          <p:cNvSpPr/>
          <p:nvPr/>
        </p:nvSpPr>
        <p:spPr>
          <a:xfrm>
            <a:off x="1214280" y="2000160"/>
            <a:ext cx="73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818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Форсирование результатов недопустим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71480" y="928800"/>
            <a:ext cx="6086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ХУДОЖЕСТВЕНН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28760" y="2000160"/>
          <a:ext cx="8229600" cy="4479840"/>
        </p:xfrm>
        <a:graphic>
          <a:graphicData uri="http://schemas.openxmlformats.org/drawingml/2006/table">
            <a:tbl>
              <a:tblPr/>
              <a:tblGrid>
                <a:gridCol w="2057400"/>
                <a:gridCol w="2054160"/>
                <a:gridCol w="2058840"/>
                <a:gridCol w="205920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нятия детских объединений художествен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 искусств, спектакли в классе,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удожественные акции и прое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школьников в окружающем школу социу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Пятно 2 28"/>
          <p:cNvSpPr/>
          <p:nvPr/>
        </p:nvSpPr>
        <p:spPr>
          <a:xfrm>
            <a:off x="0" y="571680"/>
            <a:ext cx="2357280" cy="1143000"/>
          </a:xfrm>
          <a:prstGeom prst="irregularSeal2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43080" y="856800"/>
            <a:ext cx="65865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818ff"/>
                </a:solidFill>
                <a:latin typeface="Times New Roman"/>
              </a:rPr>
              <a:t>МЕТОДИЧЕСКИЙ КОНСТРУКТОР ВНЕУРОЧНОЙ ОБРАЗОВАТЕЛЬНОЙ ПРОГРАММЫ 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СПОРТИВНО-ОЗДОРОВИ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500040" y="2000160"/>
          <a:ext cx="8229600" cy="4479840"/>
        </p:xfrm>
        <a:graphic>
          <a:graphicData uri="http://schemas.openxmlformats.org/drawingml/2006/table">
            <a:tbl>
              <a:tblPr/>
              <a:tblGrid>
                <a:gridCol w="2055960"/>
                <a:gridCol w="2057400"/>
                <a:gridCol w="2058840"/>
                <a:gridCol w="20574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Воспит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1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2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(3 уровен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818ff"/>
                          </a:solidFill>
                          <a:latin typeface="Times New Roman"/>
                          <a:ea typeface="Times New Roman"/>
                        </a:rPr>
                        <a:t>Формы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участие в оздоровительных процеду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Школьные спортив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урниры и оздоровительные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оекты школьн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 окружающем школу социу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Пятно 2 29"/>
          <p:cNvSpPr/>
          <p:nvPr/>
        </p:nvSpPr>
        <p:spPr>
          <a:xfrm>
            <a:off x="0" y="571680"/>
            <a:ext cx="2286000" cy="1143000"/>
          </a:xfrm>
          <a:prstGeom prst="irregularSeal2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1:08:53Z</dcterms:created>
  <dc:creator>USER</dc:creator>
  <dc:description/>
  <dc:language>en-US</dc:language>
  <cp:lastModifiedBy>TravelMate</cp:lastModifiedBy>
  <dcterms:modified xsi:type="dcterms:W3CDTF">2011-11-25T10:33:22Z</dcterms:modified>
  <cp:revision>46</cp:revision>
  <dc:subject/>
  <dc:title>Слайд 1</dc:title>
</cp:coreProperties>
</file>