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D614-789F-4712-BA4F-9FA7FC314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B412-F2FD-439C-81DA-63BE9307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4763-1EC6-491E-A029-1C7652BD8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7CE1-F15F-4EC5-A377-FC35D29A4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5832-31BF-4E5B-91B1-3A7E5BD7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8B28-9E97-4029-A1FC-445AD651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B94F-3A7D-418B-BC7A-B362DA9E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91A3-34E3-499D-90A2-A799AA4D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FD25-2795-45F6-9874-DE3BAE41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55E4-8DED-4E91-BA67-A6C1042E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8142-B417-47F4-976F-8C7B2304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1127-DFCE-43E3-BB97-8D0A1697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138B-285C-4A4C-B69B-E51E08FD0A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52560" y="1252440"/>
            <a:ext cx="903888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878688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87152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878688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42920" y="142920"/>
            <a:ext cx="885816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8786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87868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285840"/>
            <a:ext cx="88344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42920" y="142920"/>
            <a:ext cx="8786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871560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90010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42920" y="262080"/>
            <a:ext cx="9001080" cy="63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6320" y="357120"/>
            <a:ext cx="906768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357120" y="1357200"/>
            <a:ext cx="864396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214200"/>
            <a:ext cx="90010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87868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87868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878688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42920" y="142920"/>
            <a:ext cx="8786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8:34:31Z</dcterms:created>
  <dc:creator>ZAKHAROVA</dc:creator>
  <dc:description/>
  <dc:language>en-US</dc:language>
  <cp:lastModifiedBy>TravelMate</cp:lastModifiedBy>
  <dcterms:modified xsi:type="dcterms:W3CDTF">2011-08-28T14:07:19Z</dcterms:modified>
  <cp:revision>51</cp:revision>
  <dc:subject/>
  <dc:title>Слайд 1</dc:title>
</cp:coreProperties>
</file>