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58920" y="423900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068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4012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2168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5892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4012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2168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65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7068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58920" y="423900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7068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012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21680" y="162864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5892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4012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21680" y="4239000"/>
            <a:ext cx="2458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920" y="259920"/>
            <a:ext cx="765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0680" y="423900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0680" y="1628640"/>
            <a:ext cx="37252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8920" y="4239000"/>
            <a:ext cx="76341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hidej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Orhidej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lassic.chubrik.ru/Vivaldi/" TargetMode="External"/><Relationship Id="rId2" Type="http://schemas.openxmlformats.org/officeDocument/2006/relationships/hyperlink" Target="http://www.maykapar.ru/articles/vremena.shtml" TargetMode="External"/><Relationship Id="rId3" Type="http://schemas.openxmlformats.org/officeDocument/2006/relationships/hyperlink" Target="http://ru.wikipedia.org/wiki/&#1042;&#1077;&#1083;&#1080;&#1082;&#1086;&#1083;&#1077;&#1087;&#1085;&#1099;&#1081;_&#1095;&#1072;&#1089;&#1086;&#1089;&#1083;&#1086;&#1074;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451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Инструментальный </a:t>
            </a:r>
            <a:br>
              <a:rPr sz="4800"/>
            </a:b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конце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555640" y="515736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тонио Виваль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Времена г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лушай концерт «Весна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е чувства выражает эта музы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звучит главная мелодия 1-й части конце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ее можно наз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композитор изобразил в эпизод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ими средствами музыки передал пение птиц, журчание ручейков, вспышки мол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какой форме написана 1 часть (рондо, вариаци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350px-Botticelli-primavera"/>
          <p:cNvPicPr/>
          <p:nvPr/>
        </p:nvPicPr>
        <p:blipFill>
          <a:blip r:embed="rId1"/>
          <a:stretch/>
        </p:blipFill>
        <p:spPr>
          <a:xfrm>
            <a:off x="5796000" y="115920"/>
            <a:ext cx="3200400" cy="2266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rane Fore Sisones"/>
          <p:cNvPicPr/>
          <p:nvPr/>
        </p:nvPicPr>
        <p:blipFill>
          <a:blip r:embed="rId2"/>
          <a:stretch/>
        </p:blipFill>
        <p:spPr>
          <a:xfrm>
            <a:off x="5219640" y="465300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Апрель (Царство Венеры)"/>
          <p:cNvPicPr/>
          <p:nvPr/>
        </p:nvPicPr>
        <p:blipFill>
          <a:blip r:embed="rId3"/>
          <a:stretch/>
        </p:blipFill>
        <p:spPr>
          <a:xfrm>
            <a:off x="6659640" y="2492280"/>
            <a:ext cx="15285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03640" y="220464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Подбери визуальный ряд к части «Весна». Оформи в виде презентации или букл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6156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Спасибо </a:t>
            </a:r>
            <a:br>
              <a:rPr sz="4800"/>
            </a:b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за</a:t>
            </a:r>
            <a:br>
              <a:rPr sz="4800"/>
            </a:b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42560" y="4797000"/>
            <a:ext cx="5940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льников М.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бкинской 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 Кукуш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87280" y="0"/>
            <a:ext cx="6156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Список используем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58920" y="242100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Г.П., Критская Е.Д. Учебник «Музыка» 6 класс (стр.108-111). Москва, «Просвещение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Г.П., Критская Е.Д. Методические рекомендации к учебнику «Музыка» 6 класс. Москва, «Прсвещение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ic.chubrik.ru/Vivald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ykapar.ru/articles/vremena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Великолепный_часо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48960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ио Вивальди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пач-виртуоз, дирижер и педагог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величайших композитор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 и творил в эпоху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ок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телем жанр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струментального конце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7488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Инструментальный конце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концерт для   одних только музыкальных инструментов, без п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252519498_1"/>
          <p:cNvPicPr/>
          <p:nvPr/>
        </p:nvPicPr>
        <p:blipFill>
          <a:blip r:embed="rId1"/>
          <a:stretch/>
        </p:blipFill>
        <p:spPr>
          <a:xfrm>
            <a:off x="6443640" y="907920"/>
            <a:ext cx="2559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8920" y="115560"/>
            <a:ext cx="7367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 около 450 концертов Вивальд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 в музык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ст между хором и солистом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сами и инструмент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жали публи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ыщенность сменялась спокойствием, нежность – мощью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о прерывалось оркестро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позициях концертов Вивальди чередовались сольные и оркестровые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920" y="6524640"/>
            <a:ext cx="7634160" cy="1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1_00113"/>
          <p:cNvPicPr/>
          <p:nvPr/>
        </p:nvPicPr>
        <p:blipFill>
          <a:blip r:embed="rId1"/>
          <a:stretch/>
        </p:blipFill>
        <p:spPr>
          <a:xfrm>
            <a:off x="5940360" y="4581360"/>
            <a:ext cx="29829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9343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Принцип контра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определял трехчастную форму концер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6360" y="2636640"/>
            <a:ext cx="741672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1-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ыстрая, энергичная, обычно без медленного в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2-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рическая, певучая, более скромная по разме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3-я ча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л, подвижный, блест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«Времена год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шина творчества Вивальди.  Этот цикл объединил </a:t>
            </a: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четыре конце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солирующей скрипки и струнного оркестра.                            В них развитие музыкального образа основано на сопоставлении звучания                                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* скрип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* оркест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t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еводе с итальянского значит 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в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-12708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15920"/>
            <a:ext cx="7345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времен года всегда была популярна в искусстве.                                                  Объясняется это несколькими факто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о-перв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а давала возможность средствами данного конкретного искусства запечатлеть 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события и де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иболее характерные для того или иного времени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о-в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а всегда наделялась определенным 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философским смыс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        смена времен года рассматривалась в аспекте смены периодов человеческой жизни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* вес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есть пробуждение природных сил, олицетворяла начало и символизировала юность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* з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конец пути - ста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920" y="-40176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8900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изобразительном искусстве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чнее труды,                главным образом сельскохозяйственные, изображались в самых разных жанрах -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 скульптуры до граф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80px-Labors_of_the_months_in_Tres_Riches_Heures_du_Duc_de_Berry_-_December"/>
          <p:cNvPicPr/>
          <p:nvPr/>
        </p:nvPicPr>
        <p:blipFill>
          <a:blip r:embed="rId1"/>
          <a:stretch/>
        </p:blipFill>
        <p:spPr>
          <a:xfrm>
            <a:off x="1258920" y="256536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933d7aa5d271"/>
          <p:cNvPicPr/>
          <p:nvPr/>
        </p:nvPicPr>
        <p:blipFill>
          <a:blip r:embed="rId2"/>
          <a:stretch/>
        </p:blipFill>
        <p:spPr>
          <a:xfrm>
            <a:off x="6227640" y="2565360"/>
            <a:ext cx="2814840" cy="407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6"/>
          <p:cNvPicPr/>
          <p:nvPr/>
        </p:nvPicPr>
        <p:blipFill>
          <a:blip r:embed="rId3"/>
          <a:stretch/>
        </p:blipFill>
        <p:spPr>
          <a:xfrm>
            <a:off x="3419640" y="1413000"/>
            <a:ext cx="3035160" cy="5079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PH03228"/>
          <p:cNvPicPr/>
          <p:nvPr/>
        </p:nvPicPr>
        <p:blipFill>
          <a:blip r:embed="rId4"/>
          <a:stretch/>
        </p:blipFill>
        <p:spPr>
          <a:xfrm>
            <a:off x="1332000" y="404640"/>
            <a:ext cx="738504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561080" cy="17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 концертов «Времена года» -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программное сочин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основе которого лежат стихотворные сонет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которых, композитор раскрывает содержание каждого из концертов цик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2781360"/>
            <a:ext cx="7634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Вес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Ле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Зи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ся, что сонеты написаны самим компози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04036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есна грядет! И радостною песней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олна природа. Солнце и тепло,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Журчат ручьи. И праздничные вести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ефир разносит, Точно волшебств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друг набегают бархатные тучи,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ак благовест звучит небесный гром.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о быстро иссякает вихрь могучий, 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 щебет вновь плывет в пространстве голуб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Цветов дыханье, шелест трав,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олна природа грез.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пит пастушок, за день устав,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 тявкает чуть слышно пес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астушеской волынки звук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зносится гудящий над лугами, 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 нимф танцующих волшебный круг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есны расцвечен дивными лу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6669000"/>
            <a:ext cx="7634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март"/>
          <p:cNvPicPr/>
          <p:nvPr/>
        </p:nvPicPr>
        <p:blipFill>
          <a:blip r:embed="rId1"/>
          <a:stretch/>
        </p:blipFill>
        <p:spPr>
          <a:xfrm>
            <a:off x="6877080" y="189000"/>
            <a:ext cx="1263600" cy="203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апрель"/>
          <p:cNvPicPr/>
          <p:nvPr/>
        </p:nvPicPr>
        <p:blipFill>
          <a:blip r:embed="rId2"/>
          <a:stretch/>
        </p:blipFill>
        <p:spPr>
          <a:xfrm>
            <a:off x="7667640" y="2565360"/>
            <a:ext cx="1298520" cy="207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май"/>
          <p:cNvPicPr/>
          <p:nvPr/>
        </p:nvPicPr>
        <p:blipFill>
          <a:blip r:embed="rId3"/>
          <a:stretch/>
        </p:blipFill>
        <p:spPr>
          <a:xfrm>
            <a:off x="6732720" y="4869000"/>
            <a:ext cx="1187280" cy="1881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8102880" y="134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734520" y="3788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7886160" y="6020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0:38:04Z</dcterms:created>
  <dc:creator>HOME</dc:creator>
  <dc:description/>
  <dc:language>en-US</dc:language>
  <cp:lastModifiedBy> user</cp:lastModifiedBy>
  <dcterms:modified xsi:type="dcterms:W3CDTF">2012-07-05T09:50:59Z</dcterms:modified>
  <cp:revision>7</cp:revision>
  <dc:subject/>
  <dc:title>Инструментальный  концерт</dc:title>
</cp:coreProperties>
</file>