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B9A-B772-4FA4-8353-D19C8D4B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F45-58C5-4FE6-9C5B-52B138C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E75-B705-480C-B62E-F3A65525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EC8-5193-4A51-8973-E3729EB6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6734-66E5-41D8-BA2E-52C96011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CED7-A7D4-43A1-B06E-ED5C04D5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7DDE-4746-48D9-A65C-EC9C4F87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6F1-BA2F-4F8B-BB0D-04B57E6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2B14-0FDB-46F7-943F-717B58D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7606-5D12-4263-8F6A-093E051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46C1-8220-42A1-97A1-F8D0835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A05-C313-427E-8814-E63C71BE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8AE-C912-47FC-B5B2-AD5675F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6E5F-FC9F-4A5F-847C-4A94B7A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5E18-208F-4680-89F6-05328794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622C-5F93-40CC-A04A-A337266F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3E4-3993-498C-AF0F-38CA3E77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FE4-ED4E-4B5A-9BD7-9B31C8C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8BF-58A8-44DC-99DB-8ADBD9F4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445-1C0F-49ED-B119-16A20775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3D2-3582-45CC-8A4E-E282ABF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3D6-374D-4627-9400-22A6067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CC4-7BC5-4A67-AF3C-C1B2204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C21-0B67-4281-9634-B705681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8DF-7352-40DF-8055-3A4CEBB16B1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F47-F23F-434F-BADA-DA1D8FFE958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рок музыки в 7 классе по теме: «Музыка как вид искусства. Музыка Древних государств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обенности музык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воздействует на человека посредством зву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-  временной вид искус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в своем становлении и развитии прошла несколько этап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Древних государст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 берет свое начало и получает развитие в период Древни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образительное искусство и литература древности дают представление о музыкальных инструментах и музыкант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попытки воспроизведения музыки Древних государств, всего лишь догадки и предположения современных музыка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форизмы о музы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ва иногда нуждаются в музыке, но музыка не нуждается ни в ч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иг Эдвар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ите и изучайте великое искусство музыки. Оно откроет вам целый мир высоких чувств, страстей, мыслей. Оно сделает вас духовно богаче. Благодаря музыке вы найдете в себе новые неведомые вам прежде силы. Вы увидите жизнь в новых тонах и крас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остакович Дмит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N9 поль мориа.mp3" descr=""/>
          <p:cNvPicPr/>
          <p:nvPr/>
        </p:nvPicPr>
        <p:blipFill>
          <a:blip r:embed="rId1"/>
          <a:stretch/>
        </p:blipFill>
        <p:spPr>
          <a:xfrm>
            <a:off x="1116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5034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Источники информаци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бачева Е. Популярная история музыки. 2002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еева И.А., Фаттахова Л.Р.. История музыки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ое пособие (для студентов немузыкальных специальностей факультета культуры и искусств.). Омск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oldegypt.info/articlescategory-30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geige2007.narod.ru/History/Egypt.htm#pic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5040" y="1341000"/>
            <a:ext cx="76089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Blackadder ITC"/>
              </a:rPr>
              <a:t>Музыка как вид искусства. Основные этапы развития музыкальной культуры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FangSong"/>
              </a:rPr>
              <a:t>«Музыка - единственный всемирный язык, его не надо переводить, на нем душа говорит с душою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Авербах Бертольд. Немецкий писатель 19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99840" y="907560"/>
            <a:ext cx="75438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 (греч. musa — муза). Музыка — вид искусства, который воздействует на человека посредством звуковых образов, отражающих его различные переживания и окружающую жизнь. В отличие от пространственных искусств (живописи, скульптуры, архитектуры), музыка, наряду с хореографией, театром и кино, относится к временным искусствам. Одна из главных особенностей музыки в том, что она реально существует только в исполнении, в живом звуча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Основные этапы развития музыкальной культу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 Древнего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льная культура Средневеко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 Ренессан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 Барок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лассиц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мант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узыкальная культур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Музыка Древнего мира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 тыс. до н.э. – первая половина 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V 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века н.э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яя Гре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ий Р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Егип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ф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лей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3" descr="Pic107"/>
          <p:cNvPicPr/>
          <p:nvPr/>
        </p:nvPicPr>
        <p:blipFill>
          <a:blip r:embed="rId1"/>
          <a:stretch/>
        </p:blipFill>
        <p:spPr>
          <a:xfrm>
            <a:off x="4716360" y="1844640"/>
            <a:ext cx="3695760" cy="187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4" descr="thumb"/>
          <p:cNvPicPr/>
          <p:nvPr/>
        </p:nvPicPr>
        <p:blipFill>
          <a:blip r:embed="rId2"/>
          <a:stretch/>
        </p:blipFill>
        <p:spPr>
          <a:xfrm>
            <a:off x="2771640" y="2708280"/>
            <a:ext cx="1333800" cy="1114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5" descr="систр"/>
          <p:cNvPicPr/>
          <p:nvPr/>
        </p:nvPicPr>
        <p:blipFill>
          <a:blip r:embed="rId3"/>
          <a:stretch/>
        </p:blipFill>
        <p:spPr>
          <a:xfrm>
            <a:off x="3924360" y="4221000"/>
            <a:ext cx="1333440" cy="41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8" descr="флейта"/>
          <p:cNvPicPr/>
          <p:nvPr/>
        </p:nvPicPr>
        <p:blipFill>
          <a:blip r:embed="rId4"/>
          <a:stretch/>
        </p:blipFill>
        <p:spPr>
          <a:xfrm>
            <a:off x="6095880" y="4981680"/>
            <a:ext cx="1333800" cy="534960"/>
          </a:xfrm>
          <a:prstGeom prst="rect">
            <a:avLst/>
          </a:prstGeom>
          <a:ln w="0">
            <a:noFill/>
          </a:ln>
        </p:spPr>
      </p:pic>
      <p:pic>
        <p:nvPicPr>
          <p:cNvPr id="124" name="08 The three seasons (ashet).mp3" descr=""/>
          <p:cNvPicPr/>
          <p:nvPr/>
        </p:nvPicPr>
        <p:blipFill>
          <a:blip r:embed="rId5"/>
          <a:stretch/>
        </p:blipFill>
        <p:spPr>
          <a:xfrm>
            <a:off x="111600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реция и Ри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26" descr="c0056"/>
          <p:cNvPicPr/>
          <p:nvPr/>
        </p:nvPicPr>
        <p:blipFill>
          <a:blip r:embed="rId1"/>
          <a:stretch/>
        </p:blipFill>
        <p:spPr>
          <a:xfrm>
            <a:off x="2987640" y="4437000"/>
            <a:ext cx="210348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мозаика"/>
          <p:cNvPicPr/>
          <p:nvPr/>
        </p:nvPicPr>
        <p:blipFill>
          <a:blip r:embed="rId2"/>
          <a:stretch/>
        </p:blipFill>
        <p:spPr>
          <a:xfrm>
            <a:off x="5867280" y="2349360"/>
            <a:ext cx="2448000" cy="1729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181080" y="206064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29" descr="греуия"/>
          <p:cNvPicPr/>
          <p:nvPr/>
        </p:nvPicPr>
        <p:blipFill>
          <a:blip r:embed="rId3"/>
          <a:stretch/>
        </p:blipFill>
        <p:spPr>
          <a:xfrm>
            <a:off x="1258920" y="1989000"/>
            <a:ext cx="1903320" cy="1981440"/>
          </a:xfrm>
          <a:prstGeom prst="rect">
            <a:avLst/>
          </a:prstGeom>
          <a:ln w="0">
            <a:noFill/>
          </a:ln>
        </p:spPr>
      </p:pic>
      <p:pic>
        <p:nvPicPr>
          <p:cNvPr id="130" name="04 - Paean - Anon. (3rd or 4th C. AD).mp3" descr=""/>
          <p:cNvPicPr/>
          <p:nvPr/>
        </p:nvPicPr>
        <p:blipFill>
          <a:blip r:embed="rId4"/>
          <a:stretch/>
        </p:blipFill>
        <p:spPr>
          <a:xfrm>
            <a:off x="1187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античности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у Древней Греции и Древнего Рима принято считать первым историческим этапом европейской музыкальной куль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5:50:10Z</dcterms:created>
  <dc:creator>ира</dc:creator>
  <dc:description/>
  <dc:language>en-US</dc:language>
  <cp:lastModifiedBy> user</cp:lastModifiedBy>
  <dcterms:modified xsi:type="dcterms:W3CDTF">2012-07-05T10:18:19Z</dcterms:modified>
  <cp:revision>8</cp:revision>
  <dc:subject/>
  <dc:title>Музыка как вид искусства. Основные этапы развития музыкальной культуры.</dc:title>
</cp:coreProperties>
</file>