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10.png" ContentType="image/png"/>
  <Override PartName="/ppt/media/image5.wmf" ContentType="image/x-wmf"/>
  <Override PartName="/ppt/media/image30.wmf" ContentType="image/x-wmf"/>
  <Override PartName="/ppt/media/image26.gif" ContentType="image/gif"/>
  <Override PartName="/ppt/media/image6.png" ContentType="image/png"/>
  <Override PartName="/ppt/media/image7.wmf" ContentType="image/x-wmf"/>
  <Override PartName="/ppt/media/image8.png" ContentType="image/png"/>
  <Override PartName="/ppt/media/image28.gif" ContentType="image/gif"/>
  <Override PartName="/ppt/media/image12.wmf" ContentType="image/x-wmf"/>
  <Override PartName="/ppt/media/image9.wmf" ContentType="image/x-wmf"/>
  <Override PartName="/ppt/media/image11.wmf" ContentType="image/x-wmf"/>
  <Override PartName="/ppt/media/image17.jpeg" ContentType="image/jpeg"/>
  <Override PartName="/ppt/media/image13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8.png" ContentType="image/png"/>
  <Override PartName="/ppt/media/image19.wmf" ContentType="image/x-wmf"/>
  <Override PartName="/ppt/media/image20.gif" ContentType="image/gif"/>
  <Override PartName="/ppt/media/image23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jpeg" ContentType="image/jpeg"/>
  <Override PartName="/ppt/media/image27.gif" ContentType="image/gif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7F2-AA39-48A0-B6EC-65A9E9AB2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DE56-5AF9-4656-ABCE-95FDD6925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родительским собранием детям предлагается опросник «Чувства в школе», а на собрании родителям предлагается «рейтинг» чувств, которые дети преимущественно испытывают в школе.  Преобладающие чувства (отмечающиеся более чем у  45-50% детей класса) выделяются в списке другим цветом, например, красным. Осуществляется краткий 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D1F-B60A-4B14-88D7-1D0E4DEB6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39D3-28EE-4E4A-833B-87810E20F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ждый родитель получает «открытое письмо» своего ребё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DC17-BAA7-4289-8234-9C927C9ED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Лашина О. Ваш ребенок – пятиклассник. Занятия родительского клуба  // Школьный психолог. Прил.к газ. Первое сентября. – 2006. - № 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23C8-2CC5-46D2-89C5-DE1F7529E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3E4D-A464-496E-A1FF-96A86AC80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979-029B-46A0-A467-D6460AF4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51B-0A69-4D55-B231-2429FDAD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9EE-3107-4AA5-AF25-63D47DE7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8F5-DB0D-441B-B885-13DC0F6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BA7A-94E8-44D5-9FC7-CA37202C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4B7-8816-4C37-88A6-6F48C6B6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23A7-3005-4339-A510-EAF466CF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285F-FF3A-4282-AFA5-1A9C134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5855-F948-4657-806D-9CDA7A8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815C-F18D-468C-A5F4-D42D7F88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83E0-CBD1-4730-9329-80ECE51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7AB-C3B5-4E37-88E3-503664C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1387-E50E-44A4-8E54-1E5CEE9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A5E-5CAE-489A-8B89-43A3DED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844-70AD-4A65-A7B6-54796F95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EC12-30EC-42B1-B6B0-8FBE84D0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F7D5-2680-4F8D-9A53-2233EBF5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9826-F842-4FEC-AB04-7B2BC2DA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578C-13B6-4FA7-9BBD-7600808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4B7A-338C-46E2-AE76-395F6ED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9951-288A-4DDE-887C-DFD28252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3D34-8DC2-47F5-B71C-5AC22CC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3DB-1362-4048-BD71-4099701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58CC-066F-4AE0-B30E-302B45C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9A41-E7E9-4F97-B418-D587D54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981A-E280-4317-B2FB-EEA9456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F7DE-CB2A-4F38-AEAF-601DBED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6BFA-B7A7-4C11-80BD-95966CDF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B98C-CE33-4010-90CE-4B8212E6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CDE6-FF41-418B-8343-7C069BEC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BD8C-99AB-410E-8DDC-5475FE6E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C3D0-6A65-4870-A9FD-92155B79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4E8F-DE8F-4A2F-82E0-952CBBBA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35D-987F-4350-903A-789B9F7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4C87-C6E8-4798-8773-59E54498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981D-627C-4085-8792-B2D4E91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66DC-7DF8-428F-B043-1C61565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9457-75E4-4BAD-B960-3E2A6A2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D243-6F29-4D0F-8EC9-75D1EFE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BA8E-792C-4A96-9788-5FC7DAB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8261-0C73-494C-B0A0-6902A24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7DE7-9BBB-4368-A968-8825A90F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3E25-E7E3-44BF-A270-A98DAC4E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EDD-A28F-44EA-8D0D-E050DEBD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9FA-5F14-413C-A3F0-FC610AD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C7D-5DA3-4B4C-8642-F6450DC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23E-0CC4-42B3-8E82-CAEDF2E7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4C4-D77E-4CBE-86FF-BBCC5B7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306E-F5A1-4DA4-91A4-477C4B721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545F-88CB-4DFB-8D97-A5A72677FDD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3AD6-94F0-4858-BEB2-BE3D133F3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67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168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82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86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90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94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98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A5A5-DCAC-468F-A8A2-17D5B725CE6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5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22.jpeg"/><Relationship Id="rId8" Type="http://schemas.openxmlformats.org/officeDocument/2006/relationships/image" Target="../media/image30.wmf"/><Relationship Id="rId9" Type="http://schemas.openxmlformats.org/officeDocument/2006/relationships/image" Target="../media/image2.wmf"/><Relationship Id="rId10" Type="http://schemas.openxmlformats.org/officeDocument/2006/relationships/image" Target="../media/image21.gi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02920" y="2214360"/>
            <a:ext cx="7526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осник «Чувства в школ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исл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 выб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торые 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ее ча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пытываеш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кол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24360" y="1600200"/>
          <a:ext cx="4464000" cy="3787920"/>
        </p:xfrm>
        <a:graphic>
          <a:graphicData uri="http://schemas.openxmlformats.org/drawingml/2006/table">
            <a:tbl>
              <a:tblPr/>
              <a:tblGrid>
                <a:gridCol w="2087640"/>
                <a:gridCol w="2376360"/>
              </a:tblGrid>
              <a:tr h="46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л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ун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 в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вогу за буду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ко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дар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-воренность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атию к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а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приходить сю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358" descr=""/>
          <p:cNvPicPr/>
          <p:nvPr/>
        </p:nvPicPr>
        <p:blipFill>
          <a:blip r:embed="rId1"/>
          <a:stretch/>
        </p:blipFill>
        <p:spPr>
          <a:xfrm>
            <a:off x="1403280" y="5372280"/>
            <a:ext cx="2514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щимся предлагалось оценить степень их согласия с предложенными утвержд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следующей ш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Я иду в школу с радост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школе у меня обычно хорошее настро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 нас хороший классный руководи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 меня есть любимые школьные предме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Я привык к новым учителя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начальной школе было луч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 летних каникулах я скучал по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people3026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73040" y="285840"/>
            <a:ext cx="82137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5 « »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981000"/>
          <a:ext cx="8229600" cy="5438880"/>
        </p:xfrm>
        <a:graphic>
          <a:graphicData uri="http://schemas.openxmlformats.org/drawingml/2006/table">
            <a:tbl>
              <a:tblPr/>
              <a:tblGrid>
                <a:gridCol w="658800"/>
                <a:gridCol w="2633760"/>
                <a:gridCol w="1644480"/>
                <a:gridCol w="1646280"/>
                <a:gridCol w="1646280"/>
              </a:tblGrid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ду в школу с рад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у меня обычно хорошее на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ас хороший класс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еня есть любимые школьные предм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ивык к новым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ьной школе было луч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етних каникулах я скучал по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ятиклассника 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super027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lands078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852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39640" y="990720"/>
            <a:ext cx="8604360" cy="44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27c"/>
                </a:solidFill>
                <a:latin typeface="Arial"/>
                <a:ea typeface="Times New Roman"/>
              </a:rPr>
              <a:t> </a:t>
            </a:r>
            <a:r>
              <a:rPr b="0" i="1" lang="ru-RU" sz="4800" spc="-1" strike="noStrike">
                <a:solidFill>
                  <a:srgbClr val="ff627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Представьте себя на месте ребят, пришедших в   5-ый класс. С какими трудностями могут встретиться дет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ая утомляем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риимчивость к промахам учит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положению “худшего”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тельность к соответствию слова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спорт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лечение коллекционированием, увлечение музыкой и киноискус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ловия 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изиологи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ение режима д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ость иг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ая посад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я правильного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двигательной актив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логический климат в семь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ценка 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ценность ребенка для родит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е интереса к школ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жеское общение с одноклассник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пустимость физического воздей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 самосто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темперамента реб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я контроля за учеб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ощрение за успехи и достиж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ое стимулир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самоконтроля и само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j0232133"/>
          <p:cNvPicPr/>
          <p:nvPr/>
        </p:nvPicPr>
        <p:blipFill>
          <a:blip r:embed="rId1"/>
          <a:stretch/>
        </p:blipFill>
        <p:spPr>
          <a:xfrm>
            <a:off x="1979640" y="49417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250920" y="692280"/>
            <a:ext cx="864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ff"/>
                </a:solidFill>
                <a:latin typeface="Arial"/>
              </a:rPr>
              <a:t>Задачи  адаптационног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ff"/>
                </a:solidFill>
                <a:latin typeface="Arial"/>
              </a:rPr>
              <a:t>перио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4"/>
          <p:cNvSpPr txBox="1"/>
          <p:nvPr/>
        </p:nvSpPr>
        <p:spPr>
          <a:xfrm>
            <a:off x="6659640" y="3284640"/>
            <a:ext cx="2017800" cy="316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333399"/>
                    </a:gs>
                    <a:gs pos="100000">
                      <a:srgbClr val="ffff00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333399"/>
                  </a:gs>
                  <a:gs pos="100000">
                    <a:srgbClr val="ffff00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09480" y="1981080"/>
            <a:ext cx="815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658080" y="76500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09ab"/>
                </a:solidFill>
                <a:latin typeface="Arial"/>
              </a:rPr>
              <a:t>Задачи адаптационного периода для </a:t>
            </a:r>
            <a:r>
              <a:rPr b="0" lang="ru-RU" sz="2400" spc="-1" strike="noStrike" u="sng">
                <a:solidFill>
                  <a:srgbClr val="d109ab"/>
                </a:solidFill>
                <a:uFillTx/>
                <a:latin typeface="Arial"/>
              </a:rPr>
              <a:t>пятикласс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24000" y="1363320"/>
            <a:ext cx="85690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адаптация к «разноголосице» требова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ведение самоконтроля (теперь нет постоян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рядом классной «мамы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ыявление (пояснение, понимание) позици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соответствии с ролью мальчика и рол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девочки, а отсюда - акцент на полорол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заимо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инятие новой позиции - ученик в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ступени школы.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MCj03981530000[1]"/>
          <p:cNvPicPr/>
          <p:nvPr/>
        </p:nvPicPr>
        <p:blipFill>
          <a:blip r:embed="rId1"/>
          <a:stretch/>
        </p:blipFill>
        <p:spPr>
          <a:xfrm>
            <a:off x="7451640" y="5157720"/>
            <a:ext cx="154944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спокойный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5"/>
          <p:cNvSpPr/>
          <p:nvPr/>
        </p:nvSpPr>
        <p:spPr>
          <a:xfrm>
            <a:off x="6084720" y="620640"/>
            <a:ext cx="2808360" cy="19206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почли бы не изучать предм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язык – 1уч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язык  - 1уч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 – 1уч, музыка – 1уч, математика – 1уч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 – 1 уче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50920" y="3068640"/>
            <a:ext cx="2233440" cy="22888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дагог работает индивидуально с ребенком на уро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ого язык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уче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6156360" y="3141720"/>
            <a:ext cx="2736720" cy="32648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е всего времени уходит на подготовку дом. зада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: математике – 7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ому языку – 3уч, литературе -1уч, природоведению – 1уч, истории – 1у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 яз –  6 у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50920" y="189000"/>
            <a:ext cx="3168720" cy="265068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являют интерес к предмет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матика – 7уч; природоведение – 3уч, ИЗО – 2уч, литература – 1уч, физкультура – 4уч, русский язык – 3уч, биология – 1уч, информатика – 1уч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 – 1 уч              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 опрошенных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042920" y="5229360"/>
            <a:ext cx="4897440" cy="1618560"/>
          </a:xfrm>
          <a:prstGeom prst="rect">
            <a:avLst/>
          </a:prstGeom>
          <a:solidFill>
            <a:srgbClr val="cc99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чувствуют себя на уроке комфор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усс яз – 2уч, англ.   яз – 3уч, природоведение – 1уч, физкультура – 1, математика – 1, история – 1 уче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4572000" y="2492280"/>
            <a:ext cx="241200" cy="13737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4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6"/>
          <p:cNvSpPr/>
          <p:nvPr/>
        </p:nvSpPr>
        <p:spPr>
          <a:xfrm flipH="1" flipV="1">
            <a:off x="3492360" y="2060640"/>
            <a:ext cx="503280" cy="504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9"/>
          <p:cNvSpPr/>
          <p:nvPr/>
        </p:nvSpPr>
        <p:spPr>
          <a:xfrm flipH="1">
            <a:off x="3131640" y="3357720"/>
            <a:ext cx="576360" cy="360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 flipV="1">
            <a:off x="5148360" y="2060640"/>
            <a:ext cx="647640" cy="504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543564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5364000" y="4005360"/>
            <a:ext cx="576360" cy="360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21418"/>
          <p:cNvPicPr/>
          <p:nvPr/>
        </p:nvPicPr>
        <p:blipFill>
          <a:blip r:embed="rId1"/>
          <a:stretch/>
        </p:blipFill>
        <p:spPr>
          <a:xfrm>
            <a:off x="3851280" y="2349360"/>
            <a:ext cx="160488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Стрелка вниз 4"/>
          <p:cNvSpPr/>
          <p:nvPr/>
        </p:nvSpPr>
        <p:spPr>
          <a:xfrm rot="4452600">
            <a:off x="7111800" y="4321080"/>
            <a:ext cx="1301760" cy="1784520"/>
          </a:xfrm>
          <a:prstGeom prst="downArrow">
            <a:avLst>
              <a:gd name="adj1" fmla="val 50000"/>
              <a:gd name="adj2" fmla="val 33954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4 из 9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900000" y="4365720"/>
            <a:ext cx="5616720" cy="1313640"/>
          </a:xfrm>
          <a:prstGeom prst="rect">
            <a:avLst/>
          </a:prstGeom>
          <a:solidFill>
            <a:srgbClr val="333399"/>
          </a:solidFill>
          <a:ln w="284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ытывают  доверие к педагог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обратиться к педагогу за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поделиться своими рад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21418"/>
          <p:cNvPicPr/>
          <p:nvPr/>
        </p:nvPicPr>
        <p:blipFill>
          <a:blip r:embed="rId1"/>
          <a:stretch/>
        </p:blipFill>
        <p:spPr>
          <a:xfrm>
            <a:off x="596880" y="836640"/>
            <a:ext cx="2062080" cy="25923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низ 2"/>
          <p:cNvSpPr/>
          <p:nvPr/>
        </p:nvSpPr>
        <p:spPr>
          <a:xfrm flipV="1" rot="8031000">
            <a:off x="3121920" y="2545560"/>
            <a:ext cx="1293840" cy="1612800"/>
          </a:xfrm>
          <a:prstGeom prst="downArrow">
            <a:avLst>
              <a:gd name="adj1" fmla="val 50000"/>
              <a:gd name="adj2" fmla="val 30874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 уч-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trebovanya"/>
          <p:cNvPicPr/>
          <p:nvPr/>
        </p:nvPicPr>
        <p:blipFill>
          <a:blip r:embed="rId2"/>
          <a:stretch/>
        </p:blipFill>
        <p:spPr>
          <a:xfrm>
            <a:off x="6800760" y="2060640"/>
            <a:ext cx="194004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8120" y="188640"/>
            <a:ext cx="7769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ЕПЕНЬ ОБУЧ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8120" y="836640"/>
            <a:ext cx="77691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и СО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 4%: это “различение” (распознавание) или уровень знакомства (низшая степень обуч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 16%: это “запоминание” (учащийся может пересказать содержание текста, правила, воспроизвести формулировку того или иного закона, ответить на вопросы репродуктивного пл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 30%: это “понимание” (учащийся может воспроизвести формулировку закона, сможет объяснить его и привести прим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 64%: это простейшие умения и навыки (репродуктивный уровень, закрепленные способы применения знаний в практической деятель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уровень – до 100% ; Это перенос и применение знаний в незнаком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8120" y="691920"/>
            <a:ext cx="7769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У по итогам первой четв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413000"/>
          <a:ext cx="7721640" cy="4835520"/>
        </p:xfrm>
        <a:graphic>
          <a:graphicData uri="http://schemas.openxmlformats.org/drawingml/2006/table">
            <a:tbl>
              <a:tblPr/>
              <a:tblGrid>
                <a:gridCol w="3659040"/>
                <a:gridCol w="1204920"/>
                <a:gridCol w="285768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того, чтобы поддержать учащегося,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ираться на сильные стороны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бегать подчеркивания промахов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ести юмор во взаимоотношения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водить больше времени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имать индивидуальность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волить ребенку самому решать проблемы там, где это воз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бегать дисциплинарных поощрений и наказ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7380360" y="5445000"/>
            <a:ext cx="1547640" cy="12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ра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J0233966"/>
          <p:cNvPicPr/>
          <p:nvPr/>
        </p:nvPicPr>
        <p:blipFill>
          <a:blip r:embed="rId1"/>
          <a:stretch/>
        </p:blipFill>
        <p:spPr>
          <a:xfrm>
            <a:off x="324000" y="11592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298222"/>
                </a:solidFill>
                <a:latin typeface="Arial"/>
              </a:rPr>
              <a:t>Помните, что каждый ребенок несет в себе огромную мудрость, постарайтесь познать эту мудрость и использовать ее для взаимного духовного рос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1440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611280" y="285840"/>
            <a:ext cx="8281800" cy="65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дачи вам, сельские и город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важаемые учите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рые, злые и ника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питаны на мостике кораб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чи вам, дебютанты и а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чи! Особенно по утр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вы входите в школьные клас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и - как в клетку, другие - как в хр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.Рождестве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Открытое письмо родителя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рогие 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я и учусь в 5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хочу сообщить, что я 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равнивать с учёбой в 4 классе, то сейчас 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я 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интересный для меня предме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ещё я 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кроме этого я хочу рассказать  о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 трудным для меня в 5 классе 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всего я хочу 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большинстве случаев настроение у меня 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хочу сказать, что учителя, которые ведут уроки в 5 классе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ш классный руководитель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у признаться, что у меня совсем нет времени на 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т то, что заинтересовало меня, так это 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5 классе меня удивило 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я с гордостью могу сказать, что теперь умею 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ь, но меня торопя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пко 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а ________________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я 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5" descr="i?id=36805925&amp;tov=5"/>
          <p:cNvPicPr/>
          <p:nvPr/>
        </p:nvPicPr>
        <p:blipFill>
          <a:blip r:embed="rId2"/>
          <a:stretch/>
        </p:blipFill>
        <p:spPr>
          <a:xfrm>
            <a:off x="7308720" y="4581360"/>
            <a:ext cx="17272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3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35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5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5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352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35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Адаптация пятиклассников к изменившимся условиям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school"/>
          <p:cNvPicPr/>
          <p:nvPr/>
        </p:nvPicPr>
        <p:blipFill>
          <a:blip r:embed="rId1"/>
          <a:stretch/>
        </p:blipFill>
        <p:spPr>
          <a:xfrm>
            <a:off x="6732720" y="4724280"/>
            <a:ext cx="2171520" cy="182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PE07261_"/>
          <p:cNvPicPr/>
          <p:nvPr/>
        </p:nvPicPr>
        <p:blipFill>
          <a:blip r:embed="rId2"/>
          <a:stretch/>
        </p:blipFill>
        <p:spPr>
          <a:xfrm>
            <a:off x="0" y="18900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15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Georgia"/>
              </a:rPr>
              <a:t>Ответьте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колько клеток и строк пропускать между работами в тетрад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ужно ли учителям, не преподающим русский язык, исправлять ошибки и снижать за это оцен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учащиеся выражают свое отношение к ответу однокласс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подготовить домашнее задание по 5 предметам сразу, если из них 3 устных, которые требуют пересказа материала, 2 письменного выполнения задания, а норма затраты времени на   выполнения ДЗ по сан.нормам в 5-6-м - до 2,5 ч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ребенку справиться с разными требованиями, когда он привык к единой систем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он узнает о ваших требованиях? Как вы узнаете о том, что может тот или иной  ребен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найти обувь, которую оставил в «каком-то» кабин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smile4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67640" y="260280"/>
            <a:ext cx="11905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АДАПТАЦИЯ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– приспособление организма к изменяющимся внешним условиям. Обычно возникает в связи с кардинальной сменой деятельности человека и его социального окру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KIDS01"/>
          <p:cNvPicPr/>
          <p:nvPr/>
        </p:nvPicPr>
        <p:blipFill>
          <a:blip r:embed="rId1"/>
          <a:stretch/>
        </p:blipFill>
        <p:spPr>
          <a:xfrm>
            <a:off x="5867280" y="4302000"/>
            <a:ext cx="2676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Определение путей решения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За партой"/>
          <p:cNvPicPr/>
          <p:nvPr/>
        </p:nvPicPr>
        <p:blipFill>
          <a:blip r:embed="rId1"/>
          <a:stretch/>
        </p:blipFill>
        <p:spPr>
          <a:xfrm>
            <a:off x="395280" y="2963880"/>
            <a:ext cx="4968720" cy="35654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57200" y="1643040"/>
            <a:ext cx="83296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Определение путей решения пробл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рганизационные аспекты пробл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ин из предметов учебного плана ведет учитель начальных классов, имеющий соответствующее образование, остальные предметы ведут учителя основно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е предметы учебного плана ведут учителя основной школы, а классное руководство остается за учителем начальной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Пути решения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ть атмосферу </a:t>
            </a: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психологического комфор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доброжелательности, искренности), строить свои взаимоотношения с учащимися с учетом их индивидуальности, готовности к учебному общ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еспечить постепенный переход от коллективно-распределенных форм учебной работы к ее индивидуальным формам, опирающимся на самостоятельную работу учащихся с различными источниками информации. </a:t>
            </a: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Увеличить удельный вес групповых рабо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Качественно изменить 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этих работ и степень ответственности каждого члена группы за общий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Пути решения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вивать рефлексивные умения учащихся - умения смотреть на себя «со стороны», «чужими глазами»; совершенствовать навыки 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амоконтроля и самооцен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взаимоконтроля и взаимооцен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оставить учащимся возможность 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вободного выбор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пособов и источников информации, обучать умению работать с ними, использовать их для 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решения самостоятельно поставленных, личностно-значимых учеб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ерии готовности к обучению в средней шко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Пути решения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ждый учитель-предметник должен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знать программные требован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 предмету за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курс начальной школы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должен ознакомиться с программой обучения и учебными средствами, по которым работала начальная школа, изучить методику обучения конкретного учителя начальной школы, от которого класс переходит в основную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о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четко соблюдать единые требования к учащимс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о стороны всех участников образовательного процесс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Diagram 38"/>
          <p:cNvGrpSpPr/>
          <p:nvPr/>
        </p:nvGrpSpPr>
        <p:grpSpPr>
          <a:xfrm>
            <a:off x="1084320" y="1989000"/>
            <a:ext cx="6998400" cy="4526280"/>
            <a:chOff x="1084320" y="1989000"/>
            <a:chExt cx="6998400" cy="4526280"/>
          </a:xfrm>
        </p:grpSpPr>
        <p:sp>
          <p:nvSpPr>
            <p:cNvPr id="376" name="_s1028"/>
            <p:cNvSpPr/>
            <p:nvPr/>
          </p:nvSpPr>
          <p:spPr>
            <a:xfrm flipH="1" flipV="1">
              <a:off x="2899080" y="3686040"/>
              <a:ext cx="84204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1029"/>
            <p:cNvSpPr/>
            <p:nvPr/>
          </p:nvSpPr>
          <p:spPr>
            <a:xfrm>
              <a:off x="1084320" y="2837520"/>
              <a:ext cx="1944720" cy="113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Классный руко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030"/>
            <p:cNvSpPr/>
            <p:nvPr/>
          </p:nvSpPr>
          <p:spPr>
            <a:xfrm flipH="1">
              <a:off x="2899080" y="4534560"/>
              <a:ext cx="84348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1"/>
            <p:cNvSpPr/>
            <p:nvPr/>
          </p:nvSpPr>
          <p:spPr>
            <a:xfrm>
              <a:off x="1084320" y="4535280"/>
              <a:ext cx="1944720" cy="113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Соцпедаг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1032"/>
            <p:cNvSpPr/>
            <p:nvPr/>
          </p:nvSpPr>
          <p:spPr>
            <a:xfrm>
              <a:off x="4583160" y="4816440"/>
              <a:ext cx="72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1033"/>
            <p:cNvSpPr/>
            <p:nvPr/>
          </p:nvSpPr>
          <p:spPr>
            <a:xfrm>
              <a:off x="3611160" y="5383800"/>
              <a:ext cx="1944720" cy="1131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orgia"/>
                </a:rPr>
                <a:t>Родители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1034"/>
            <p:cNvSpPr/>
            <p:nvPr/>
          </p:nvSpPr>
          <p:spPr>
            <a:xfrm>
              <a:off x="5424120" y="4533840"/>
              <a:ext cx="843120" cy="283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1035"/>
            <p:cNvSpPr/>
            <p:nvPr/>
          </p:nvSpPr>
          <p:spPr>
            <a:xfrm>
              <a:off x="6138000" y="4535280"/>
              <a:ext cx="1944720" cy="1131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Психоло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36"/>
            <p:cNvSpPr/>
            <p:nvPr/>
          </p:nvSpPr>
          <p:spPr>
            <a:xfrm flipV="1">
              <a:off x="5424120" y="3686040"/>
              <a:ext cx="843120" cy="282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1037"/>
            <p:cNvSpPr/>
            <p:nvPr/>
          </p:nvSpPr>
          <p:spPr>
            <a:xfrm>
              <a:off x="6138000" y="2837520"/>
              <a:ext cx="1944720" cy="1131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Учитель-предме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1038"/>
            <p:cNvSpPr/>
            <p:nvPr/>
          </p:nvSpPr>
          <p:spPr>
            <a:xfrm flipV="1">
              <a:off x="4583160" y="3119760"/>
              <a:ext cx="0" cy="566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39"/>
            <p:cNvSpPr/>
            <p:nvPr/>
          </p:nvSpPr>
          <p:spPr>
            <a:xfrm>
              <a:off x="3611160" y="1989000"/>
              <a:ext cx="1944720" cy="1131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А</a:t>
              </a: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дминистра-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1040"/>
            <p:cNvSpPr/>
            <p:nvPr/>
          </p:nvSpPr>
          <p:spPr>
            <a:xfrm>
              <a:off x="3611160" y="3686400"/>
              <a:ext cx="1944720" cy="1131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Пятиклас-с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Picture 55" descr="Новый рисунок (1)"/>
          <p:cNvPicPr/>
          <p:nvPr/>
        </p:nvPicPr>
        <p:blipFill>
          <a:blip r:embed="rId8"/>
          <a:stretch/>
        </p:blipFill>
        <p:spPr>
          <a:xfrm>
            <a:off x="6962760" y="476280"/>
            <a:ext cx="1895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Рекомендации по организации работы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 пятиклассниками в начале учебн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Georgia"/>
              </a:rPr>
              <a:t>1</a:t>
            </a:r>
            <a:r>
              <a:rPr b="0" lang="ru-RU" sz="2200" spc="-1" strike="noStrike">
                <a:solidFill>
                  <a:srgbClr val="800000"/>
                </a:solidFill>
                <a:latin typeface="Georgia"/>
              </a:rPr>
              <a:t>. Организация учебного процесс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е позволять опоздания на уро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дагог не задерживает детей после звонка с уро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ети могут находиться в классе только при учител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носить еду и напитки в класс запрещает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се необходимое для урока должно лежать на парте до начала занятия, лишние предметы – убираю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дагог сообщает учащимся, что им должно понадобиться на уроке, требует соблюдения порядка на стол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ачале урока дети приветствуют учителя сто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ля ответа ученик поднимает руку, выкрики с места не поддерживают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вечать учителю можно сидя за парт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ежурный по классу моет доску; следит за тем, чтобы губка была влажн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ле урока дежурный подбирает бумажки и проверяет, нет ли надписей на пар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8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5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6" dur="1000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Рекомендации по организации работы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 пятиклассниками в начале учебн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2. Требования к детям: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се письменные работы выполняются синей или черной шариковой ручкой (писать в тетрадях гелиевой ручкой не разрешается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ля выделения материала в письменных работах используется зеленая ручка или простой карандаш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се рисунки выполняются только карандашо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ля письменных работ рекомендуется сохранять единый орфографический режи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читель знакомит детей с правилами выделения тем и понятий в тетради; следит за выполнением требова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вести оценку за ведение тетради; каждый педагог сообщает классу, как часто она выставляется по его предмету (раз в неделю, раз в две недели, раз в месяц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единая система требований к контрольным работам: обязательно пишется число и вариан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невнике должно быть написано расписание, поставлены числа, записано домашнее зад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4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1" dur="1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Рекомендации по организации работы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 пятиклассниками в начале учебн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3. Рекомендации педагогам: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уроках чередовать виды деятельности или вводить физкультминутки через 20 мин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ые две-три недели, приветствуя детей, называть свое имя-отч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граничивать объем домашнего задания, согласовывать его с другими преподавател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гласовывать сроки проведения контрольных раб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ый месяц повторять свои основные требования на каждом уро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 успех хвалят самого реб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неуспехе обсуждается ошибка, а не уче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переменах обращать внимание на поведение пятиклассников, останавливать разбушевавш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6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0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Может быть т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проблемы в учебе"/>
          <p:cNvPicPr/>
          <p:nvPr/>
        </p:nvPicPr>
        <p:blipFill>
          <a:blip r:embed="rId1"/>
          <a:stretch/>
        </p:blipFill>
        <p:spPr>
          <a:xfrm>
            <a:off x="250920" y="549360"/>
            <a:ext cx="3730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smile4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786280" y="1643040"/>
            <a:ext cx="685800" cy="547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проблемы в учебе"/>
          <p:cNvPicPr/>
          <p:nvPr/>
        </p:nvPicPr>
        <p:blipFill>
          <a:blip r:embed="rId2"/>
          <a:stretch/>
        </p:blipFill>
        <p:spPr>
          <a:xfrm>
            <a:off x="3857760" y="2814480"/>
            <a:ext cx="1428480" cy="2095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3D_bookworm"/>
          <p:cNvPicPr/>
          <p:nvPr/>
        </p:nvPicPr>
        <p:blipFill>
          <a:blip r:embed="rId3"/>
          <a:stretch/>
        </p:blipFill>
        <p:spPr>
          <a:xfrm>
            <a:off x="6858000" y="1785960"/>
            <a:ext cx="1420920" cy="1184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Новый рисунок (1)"/>
          <p:cNvPicPr/>
          <p:nvPr/>
        </p:nvPicPr>
        <p:blipFill>
          <a:blip r:embed="rId4"/>
          <a:stretch/>
        </p:blipFill>
        <p:spPr>
          <a:xfrm>
            <a:off x="3276720" y="1557360"/>
            <a:ext cx="946080" cy="1114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j0336890"/>
          <p:cNvPicPr/>
          <p:nvPr/>
        </p:nvPicPr>
        <p:blipFill>
          <a:blip r:embed="rId5"/>
          <a:stretch/>
        </p:blipFill>
        <p:spPr>
          <a:xfrm>
            <a:off x="4500720" y="5715000"/>
            <a:ext cx="938160" cy="608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j0336888"/>
          <p:cNvPicPr/>
          <p:nvPr/>
        </p:nvPicPr>
        <p:blipFill>
          <a:blip r:embed="rId6"/>
          <a:stretch/>
        </p:blipFill>
        <p:spPr>
          <a:xfrm>
            <a:off x="237960" y="6072120"/>
            <a:ext cx="1257480" cy="793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За партой"/>
          <p:cNvPicPr/>
          <p:nvPr/>
        </p:nvPicPr>
        <p:blipFill>
          <a:blip r:embed="rId7"/>
          <a:stretch/>
        </p:blipFill>
        <p:spPr>
          <a:xfrm>
            <a:off x="343080" y="1771560"/>
            <a:ext cx="2314440" cy="1660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j0233965"/>
          <p:cNvPicPr/>
          <p:nvPr/>
        </p:nvPicPr>
        <p:blipFill>
          <a:blip r:embed="rId8"/>
          <a:stretch/>
        </p:blipFill>
        <p:spPr>
          <a:xfrm>
            <a:off x="6215040" y="2714760"/>
            <a:ext cx="2406600" cy="1812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j0233966"/>
          <p:cNvPicPr/>
          <p:nvPr/>
        </p:nvPicPr>
        <p:blipFill>
          <a:blip r:embed="rId9"/>
          <a:stretch/>
        </p:blipFill>
        <p:spPr>
          <a:xfrm>
            <a:off x="343080" y="5505480"/>
            <a:ext cx="1670040" cy="1360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KIDS01"/>
          <p:cNvPicPr/>
          <p:nvPr/>
        </p:nvPicPr>
        <p:blipFill>
          <a:blip r:embed="rId10"/>
          <a:stretch/>
        </p:blipFill>
        <p:spPr>
          <a:xfrm>
            <a:off x="6429240" y="4714920"/>
            <a:ext cx="2171880" cy="1819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8" descr="j0250467"/>
          <p:cNvPicPr/>
          <p:nvPr/>
        </p:nvPicPr>
        <p:blipFill>
          <a:blip r:embed="rId11"/>
          <a:stretch/>
        </p:blipFill>
        <p:spPr>
          <a:xfrm>
            <a:off x="1042920" y="3789360"/>
            <a:ext cx="1820880" cy="1238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056120" cy="3657600"/>
          </a:xfrm>
          <a:prstGeom prst="rect">
            <a:avLst/>
          </a:prstGeom>
          <a:ln w="0">
            <a:noFill/>
          </a:ln>
        </p:spPr>
      </p:pic>
      <p:sp>
        <p:nvSpPr>
          <p:cNvPr id="412" name="WordArt 3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9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со старше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огласованность, даже противоречивость требований отдельных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лабление или отсутствие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еобразие подросткового возраста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PE02288_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http://www.psy.5igorsk.ru</dc:creator>
  <dc:description/>
  <dc:language>en-US</dc:language>
  <cp:lastModifiedBy>TravelMate</cp:lastModifiedBy>
  <dcterms:modified xsi:type="dcterms:W3CDTF">2011-10-24T16:54:43Z</dcterms:modified>
  <cp:revision>150</cp:revision>
  <dc:subject/>
  <dc:title>Родительское собрание в 5 классе</dc:title>
</cp:coreProperties>
</file>